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C64-54A5-4CC1-A653-08C0D41B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0B-6027-41D6-B082-747C3B1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1AA-DF3F-44F8-A91A-3E07288D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655-0CCA-4300-9BA7-929FFD4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432-605B-40AD-B421-68BF4F1F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7331-ECE7-4187-99BD-EB3368E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482-FB6C-4149-A5C9-B10809D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4B5-468E-4A02-85A2-5E530A6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7CD-A1BA-46A1-AC70-91DAF69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61D-71E7-47AE-95FA-9543240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DDA9-3C9C-4CFA-8F10-43B650D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169-4B02-49F6-B04B-DEFAD20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1E67-A561-4C82-95D6-D75891C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3B02-DD3E-4B6C-AE00-5EDB308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78AD-22F5-41B8-98D4-5F31A0E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651-59F0-4966-A68D-E4FCF8B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5D4-F999-47D5-9944-3C3E68B0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F3AD-269F-421B-B6A5-150F8C97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EF9C-E26A-4EEE-BFBD-4EAE676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91DC-2309-438F-AFC2-E2620639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D93B-8BB9-47BF-8AE0-20BD8E0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936A-14C9-4B66-A469-026E64D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D8D-A55B-4DFA-B293-7F163B7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4667-7553-47E5-B3E8-BC06BA07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88F7-5754-4517-B329-11705747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9CDC-7A21-41E6-925F-E4E6BCE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AD87-F7AF-4173-B2E1-208A938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E77D-A59E-4461-BE45-9550B11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FB0F-7105-4B6D-BD2A-019F376F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526B-A151-4D5F-A2C1-8CDA2111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0A1-1171-4770-86D7-BA9126F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A71-EC5A-40CC-AA64-E589103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962-3F3E-4171-956B-937E425A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57A-5C6E-4B56-8E00-9A1D47E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350-3671-4B63-A89C-9C451A3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402-D880-4597-8F83-7B9F578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566782-3794-46B5-9744-F633F62CAAC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4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4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2200" spc="-1" strike="noStrike">
                <a:solidFill>
                  <a:srgbClr val="000000"/>
                </a:solidFill>
                <a:latin typeface="Calisto MT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3716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3" marL="18288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2860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C9FD48-ACCE-4A30-8F6D-EA80066201B1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tandardRule.png"/>
          <p:cNvPicPr/>
          <p:nvPr/>
        </p:nvPicPr>
        <p:blipFill>
          <a:blip r:embed="rId3"/>
          <a:stretch/>
        </p:blipFill>
        <p:spPr>
          <a:xfrm>
            <a:off x="2705040" y="15238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922B217-0B72-4BCB-A300-881CB413D64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standardRule.png"/>
          <p:cNvPicPr/>
          <p:nvPr/>
        </p:nvPicPr>
        <p:blipFill>
          <a:blip r:embed="rId3"/>
          <a:stretch/>
        </p:blipFill>
        <p:spPr>
          <a:xfrm>
            <a:off x="2705040" y="33526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CPSC 203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Introduction to Computer Scienc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44197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TA: Shreya 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Email: srawal@ucalgary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CT hours: Thursday 3:00 pm–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chedu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-3: Spreadshee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1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Feb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4-6: Databas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2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7-9: Programm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3: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0-12: Desig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4: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66840" y="5225400"/>
            <a:ext cx="96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(6.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Assignments 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1: Spreadsheet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January 2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February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2: Databases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erm Project (9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ral presentation: April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to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iki part due: April 1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Spreadsheets!!!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ponents of a spreadsheet window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bb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in Toolb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ontextual Menu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ffice Butt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42" name="Content Placeholder 4" descr="CSPC203_Template_Spreadsheet_Image_1.png"/>
          <p:cNvPicPr/>
          <p:nvPr/>
        </p:nvPicPr>
        <p:blipFill>
          <a:blip r:embed="rId1"/>
          <a:srcRect l="-5557" t="0" r="-5557" b="0"/>
          <a:stretch/>
        </p:blipFill>
        <p:spPr>
          <a:xfrm>
            <a:off x="0" y="274680"/>
            <a:ext cx="9143640" cy="61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Today’s Tutorial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preadsheets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yping in some basic dat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Using the AutoFill featu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tting-up appropriate field formats, such as currency, numbers, text, etc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alculating basic statis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mportant things on wik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bs Templat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A Examp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PSC203_Template_Peop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avelogue.thmx</Template>
  <TotalTime>255</TotalTime>
  <Application>LibreOffice/7.4.7.2$Linux_X86_64 LibreOffice_project/40$Build-2</Application>
  <AppVersion>15.0000</AppVersion>
  <Words>235</Words>
  <Paragraphs>4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11:54Z</dcterms:created>
  <dc:creator>Shreya Rawal</dc:creator>
  <dc:description/>
  <dc:language>en-US</dc:language>
  <cp:lastModifiedBy>Shreya Rawal</cp:lastModifiedBy>
  <dcterms:modified xsi:type="dcterms:W3CDTF">2009-01-19T07:44:06Z</dcterms:modified>
  <cp:revision>7</cp:revision>
  <dc:subject/>
  <dc:title>CPSC 203 Introduction to Computer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